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661-9323-45C5-98BA-2D33FD8C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E57-8521-4F8B-BD6D-1847CA7C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E12-A359-48D6-8BE7-8A19C191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36F-B4C4-4842-8F76-1CC3E6D9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286-BA80-4E11-9719-CF9973CD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9301-15CF-4866-B8E6-166C88AE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E092-E878-4C40-81F4-E017FFCF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F2C-0AFD-4A9D-AD37-ECC8EC7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BD42-384D-4A43-A694-8B4340AF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034A-8BD6-47F6-B322-9E4AE51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1A17-3EFA-4C2E-8E62-9505E49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4AE-5B3C-426C-9619-DE6E79DA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469-8739-405A-9BF8-D3A19D69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A493-A96B-4890-8FDC-209A315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DCFF-3C21-4AEB-843E-14BBDFB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A38A-ABF6-4517-8D70-EAEC401A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1035-BFC1-4BE2-90AE-79BCDB8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7E7-19EA-44CF-B04A-FDFA40C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656-F1CA-471A-B8FD-F516859D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750-42ED-465D-92F3-0B471B3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168-1506-4D0D-9CEA-288F641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5A8-BC98-42D3-8F92-AC5F02C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EB2-5A50-42B7-9D05-A442502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AB7-2A7C-4255-93C0-4990195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6981-1E60-4813-BDFD-6C70B60C8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EF6-1C8D-4FF6-A5E3-D20BF94D5F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04292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 figurą geometryczną, jaką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otykasz się prawie na każdym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06640" y="1989000"/>
            <a:ext cx="2071440" cy="145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51280" y="1989000"/>
            <a:ext cx="2160720" cy="1435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6280" y="340992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e-sochacze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62360" y="3429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pl.wikip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184" descr=""/>
          <p:cNvPicPr/>
          <p:nvPr/>
        </p:nvPicPr>
        <p:blipFill>
          <a:blip r:embed="rId3"/>
          <a:stretch/>
        </p:blipFill>
        <p:spPr>
          <a:xfrm>
            <a:off x="1467000" y="4387680"/>
            <a:ext cx="1306440" cy="1202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85" descr=""/>
          <p:cNvPicPr/>
          <p:nvPr/>
        </p:nvPicPr>
        <p:blipFill>
          <a:blip r:embed="rId4"/>
          <a:stretch/>
        </p:blipFill>
        <p:spPr>
          <a:xfrm>
            <a:off x="3897360" y="4346640"/>
            <a:ext cx="202572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86" descr="http://t2.gstatic.com/images?q=tbn:ANd9GcRwCoXnjh51CgDEVA45qCYqujndVfO05Z7rryGq2U5epdQ6m16OkA"/>
          <p:cNvPicPr/>
          <p:nvPr/>
        </p:nvPicPr>
        <p:blipFill>
          <a:blip r:embed="rId5"/>
          <a:stretch/>
        </p:blipFill>
        <p:spPr>
          <a:xfrm>
            <a:off x="6597720" y="4329000"/>
            <a:ext cx="1665360" cy="124488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87" descr="http://ambinet.pl/film/ha/harry_potter1/plakat.jpg"/>
          <p:cNvPicPr/>
          <p:nvPr/>
        </p:nvPicPr>
        <p:blipFill>
          <a:blip r:embed="rId6"/>
          <a:stretch/>
        </p:blipFill>
        <p:spPr>
          <a:xfrm>
            <a:off x="6708600" y="1808280"/>
            <a:ext cx="1419480" cy="184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4840" y="3654360"/>
            <a:ext cx="247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nożnej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16280" y="365436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isko do piłki koszykowej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5589720"/>
            <a:ext cx="2476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naki drogowe np. te umieszczone przed przejazdem kolejowym również mają kształt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1640" y="5634000"/>
            <a:ext cx="24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ice informacyj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634000"/>
            <a:ext cx="2476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ja kartka z zeszytu, czy koperta też mają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654360"/>
            <a:ext cx="22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kat filmowy również ma kształ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oką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UŻ WIESZ, Ż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50920" y="135900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6280" y="1763640"/>
            <a:ext cx="4635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b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wierzchoł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tery kąty wewnętr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50920" y="35924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Ćwicze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ź za pomocą kątomierza jaką miarę mają kąty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4869000"/>
            <a:ext cx="31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ara każdego kąta w prostokącie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czyli jest to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ąt pro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6280" y="2754360"/>
            <a:ext cx="38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ażdy kąt prostokąta ma 9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18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1763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4089240"/>
            <a:ext cx="148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B| = |C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D| = |B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1000" y="509436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ciwległe boki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374840" y="2168640"/>
            <a:ext cx="4637160" cy="1352160"/>
            <a:chOff x="1374840" y="2168640"/>
            <a:chExt cx="4637160" cy="1352160"/>
          </a:xfrm>
        </p:grpSpPr>
        <p:sp>
          <p:nvSpPr>
            <p:cNvPr id="130" name=""/>
            <p:cNvSpPr/>
            <p:nvPr/>
          </p:nvSpPr>
          <p:spPr>
            <a:xfrm>
              <a:off x="1376640" y="2168640"/>
              <a:ext cx="463536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bo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wierzchoł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ztery kąty wewnętrz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74840" y="3152520"/>
              <a:ext cx="382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żdy kąt prostokąta ma 90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6280" y="351144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ciwległe boki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50920" y="10429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a pomocą linijki zmierz długości boków prostokąta. Zapisz wnio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graphicFrame>
          <p:nvGraphicFramePr>
            <p:cNvPr id="136" name=""/>
            <p:cNvGraphicFramePr/>
            <p:nvPr/>
          </p:nvGraphicFramePr>
          <p:xfrm>
            <a:off x="5923080" y="1630080"/>
            <a:ext cx="2889000" cy="441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3080" y="1630080"/>
                      <a:ext cx="288900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0920" y="238752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7000" y="50878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C| = |B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50920" y="5634000"/>
            <a:ext cx="39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Przekątne prostokąta są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74840" y="2798640"/>
            <a:ext cx="4637160" cy="1711080"/>
            <a:chOff x="1374840" y="2798640"/>
            <a:chExt cx="4637160" cy="1711080"/>
          </a:xfrm>
        </p:grpSpPr>
        <p:grpSp>
          <p:nvGrpSpPr>
            <p:cNvPr id="149" name=""/>
            <p:cNvGrpSpPr/>
            <p:nvPr/>
          </p:nvGrpSpPr>
          <p:grpSpPr>
            <a:xfrm>
              <a:off x="1374840" y="2798640"/>
              <a:ext cx="4637160" cy="1352160"/>
              <a:chOff x="1374840" y="2798640"/>
              <a:chExt cx="4637160" cy="1352160"/>
            </a:xfrm>
          </p:grpSpPr>
          <p:sp>
            <p:nvSpPr>
              <p:cNvPr id="150" name=""/>
              <p:cNvSpPr/>
              <p:nvPr/>
            </p:nvSpPr>
            <p:spPr>
              <a:xfrm>
                <a:off x="1376640" y="2798640"/>
                <a:ext cx="4635360" cy="99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bo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wierzchołk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ztery kąty wewnętrz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4840" y="3782520"/>
                <a:ext cx="382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ażdy kąt prostokąta ma 9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76280" y="414144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ciwległe boki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150920" y="166212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mierz długość odcinków: AC i B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6280" y="4502160"/>
            <a:ext cx="45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e są równej dług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2360" y="954000"/>
            <a:ext cx="49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łącząc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zeciw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erzchołki prostokąta nazyw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zekątnym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57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KĄTNE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0920" y="18082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oką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0920" y="5753160"/>
            <a:ext cx="39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nio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Punkt O – punkt przeci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ę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cia przek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ą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  <a:ea typeface="Times New Roman"/>
              </a:rPr>
              <a:t>tnych dzieli je na równe odcinki.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699000"/>
            <a:ext cx="337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0920" y="10890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 możesz powiedzieć o długościach odcinków AO i OC oraz BO i 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4840" y="2214720"/>
            <a:ext cx="4637160" cy="2071440"/>
            <a:chOff x="1374840" y="2214720"/>
            <a:chExt cx="4637160" cy="2071440"/>
          </a:xfrm>
        </p:grpSpPr>
        <p:grpSp>
          <p:nvGrpSpPr>
            <p:cNvPr id="171" name=""/>
            <p:cNvGrpSpPr/>
            <p:nvPr/>
          </p:nvGrpSpPr>
          <p:grpSpPr>
            <a:xfrm>
              <a:off x="1374840" y="2214720"/>
              <a:ext cx="4637160" cy="1711080"/>
              <a:chOff x="1374840" y="2214720"/>
              <a:chExt cx="4637160" cy="17110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1374840" y="2214720"/>
                <a:ext cx="4637160" cy="1352160"/>
                <a:chOff x="1374840" y="2214720"/>
                <a:chExt cx="4637160" cy="1352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376640" y="2214720"/>
                  <a:ext cx="4635360" cy="99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bo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wierzchołk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ztery kąty wewnętrzn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374840" y="3198600"/>
                  <a:ext cx="3826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ażdy kąt prostokąta ma 9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376280" y="3557520"/>
                <a:ext cx="459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zeciwległe boki są równej długośc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376280" y="3917880"/>
              <a:ext cx="459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zekątne są równej długoś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697360" y="1314360"/>
            <a:ext cx="3465720" cy="5041800"/>
            <a:chOff x="5697360" y="1314360"/>
            <a:chExt cx="3465720" cy="5041800"/>
          </a:xfrm>
        </p:grpSpPr>
        <p:sp>
          <p:nvSpPr>
            <p:cNvPr id="178" name=""/>
            <p:cNvSpPr/>
            <p:nvPr/>
          </p:nvSpPr>
          <p:spPr>
            <a:xfrm>
              <a:off x="5742000" y="59878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7720" y="59878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772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97360" y="131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5921280" y="1585800"/>
            <a:ext cx="2917800" cy="445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21280" y="1585800"/>
                      <a:ext cx="2917800" cy="44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182000" y="3917880"/>
              <a:ext cx="4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7000" y="4944960"/>
            <a:ext cx="148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AO| = |OC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BO| = |OD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6280" y="4273560"/>
            <a:ext cx="45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punkt przecięcia przekątnych </a:t>
            </a:r>
            <a:br>
              <a:rPr sz="1800"/>
            </a:b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 dzieli je na połow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JEMY PROSTO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50920" y="998640"/>
            <a:ext cx="6165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arysuj prostokąt o bokach 4 cm i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76364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dw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ółproste prostopad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w punkc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270828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Następnie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3940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Rysujemy odcine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207972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Na półprostych odmierzamy odcinki o danych długości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37000" y="4417920"/>
            <a:ext cx="3825000" cy="2070000"/>
            <a:chOff x="2637000" y="4417920"/>
            <a:chExt cx="3825000" cy="2070000"/>
          </a:xfrm>
        </p:grpSpPr>
        <p:sp>
          <p:nvSpPr>
            <p:cNvPr id="195" name=""/>
            <p:cNvSpPr/>
            <p:nvPr/>
          </p:nvSpPr>
          <p:spPr>
            <a:xfrm flipH="1" flipV="1" rot="5400000">
              <a:off x="4505400" y="475128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 rot="5400000">
              <a:off x="3513960" y="3540240"/>
              <a:ext cx="207000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V="1">
            <a:off x="6462720" y="4417560"/>
            <a:ext cx="0" cy="20703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36280" y="648828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44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72360" y="644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16640" y="40971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700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637000" y="2664000"/>
            <a:ext cx="2069640" cy="3825000"/>
            <a:chOff x="2637000" y="2664000"/>
            <a:chExt cx="2069640" cy="3825000"/>
          </a:xfrm>
        </p:grpSpPr>
        <p:sp>
          <p:nvSpPr>
            <p:cNvPr id="204" name=""/>
            <p:cNvSpPr/>
            <p:nvPr/>
          </p:nvSpPr>
          <p:spPr>
            <a:xfrm flipH="1" flipV="1" rot="10800000">
              <a:off x="2966760" y="412092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 rot="10800000">
              <a:off x="2636640" y="266364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52360" y="1278000"/>
            <a:ext cx="67503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 narysowania prostokąta będzie nam potrzebna ekier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37000" y="4419720"/>
            <a:ext cx="0" cy="2070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37360" y="4419720"/>
            <a:ext cx="3825000" cy="2069640"/>
            <a:chOff x="2637360" y="4419720"/>
            <a:chExt cx="3825000" cy="2069640"/>
          </a:xfrm>
        </p:grpSpPr>
        <p:sp>
          <p:nvSpPr>
            <p:cNvPr id="209" name=""/>
            <p:cNvSpPr/>
            <p:nvPr/>
          </p:nvSpPr>
          <p:spPr>
            <a:xfrm flipH="1" flipV="1" rot="16200000">
              <a:off x="3598560" y="4338000"/>
              <a:ext cx="994680" cy="1817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 rot="16200000">
              <a:off x="3514680" y="3541680"/>
              <a:ext cx="2069640" cy="3825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636280" y="4419720"/>
            <a:ext cx="3825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 I SZEROKOŚĆ PROSTO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46280" y="2079720"/>
            <a:ext cx="4456080" cy="2707920"/>
            <a:chOff x="2546280" y="2079720"/>
            <a:chExt cx="4456080" cy="2707920"/>
          </a:xfrm>
        </p:grpSpPr>
        <p:grpSp>
          <p:nvGrpSpPr>
            <p:cNvPr id="216" name=""/>
            <p:cNvGrpSpPr/>
            <p:nvPr/>
          </p:nvGrpSpPr>
          <p:grpSpPr>
            <a:xfrm>
              <a:off x="2814840" y="2393280"/>
              <a:ext cx="3829680" cy="2072160"/>
              <a:chOff x="2814840" y="2393280"/>
              <a:chExt cx="3829680" cy="207216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818800" y="2393280"/>
                <a:ext cx="3825720" cy="2069640"/>
                <a:chOff x="2818800" y="2393280"/>
                <a:chExt cx="3825720" cy="2069640"/>
              </a:xfrm>
            </p:grpSpPr>
            <p:sp>
              <p:nvSpPr>
                <p:cNvPr id="218" name=""/>
                <p:cNvSpPr/>
                <p:nvPr/>
              </p:nvSpPr>
              <p:spPr>
                <a:xfrm flipH="1">
                  <a:off x="2818800" y="2393640"/>
                  <a:ext cx="3825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6643800" y="2393280"/>
                  <a:ext cx="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2814840" y="2395800"/>
                <a:ext cx="3828240" cy="2069640"/>
                <a:chOff x="2814840" y="2395800"/>
                <a:chExt cx="3828240" cy="2069640"/>
              </a:xfrm>
            </p:grpSpPr>
            <p:sp>
              <p:nvSpPr>
                <p:cNvPr id="221" name=""/>
                <p:cNvSpPr/>
                <p:nvPr/>
              </p:nvSpPr>
              <p:spPr>
                <a:xfrm flipH="1">
                  <a:off x="2817360" y="4460760"/>
                  <a:ext cx="3825720" cy="4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14840" y="2395800"/>
                  <a:ext cx="2880" cy="206964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2546280" y="441936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6280" y="20797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97720" y="2079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95920" y="441936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37000" y="45990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ług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42000" y="311472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zerokość prosto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81280" y="545472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ługość i szerokość prostokąta to jeg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ymi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04:11Z</dcterms:modified>
  <cp:revision>13</cp:revision>
  <dc:subject/>
  <dc:title>Slajd 1</dc:title>
</cp:coreProperties>
</file>